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629C-8E8B-4B36-A93A-9CB3BED4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60A-DE50-445B-958C-2D4B8651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686-204B-42FB-963E-736AC1E6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1F5D-7969-493A-8E6D-D5CB2044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97B0-3CD8-44BD-8C1B-5E6704E1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B6B0-CC5A-4225-A06C-EACBA728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19F-3F06-4B56-9BB7-F1C0C7F6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4E04-DF51-4B07-8C84-3481B4BB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598-6C08-4326-A8CF-C640FFA5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9D0-74B6-4CBD-A3F6-975F6818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3FE-3919-45E7-AEC7-E2621E49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824-DE6A-4D6D-ACA3-85ABA86B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4EEA-204E-4759-8451-9B3732618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SPI 0606.3.3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I can Construct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Occup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eneral Contractor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Keep workers focu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Turn In final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ject Manager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cord problems/Solutions/En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uppl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Gather and return 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. Problem Solve – Evaluate situation and determine what is missing (measure each pie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. Construct addition equation for missing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. Visit supply yard (must bring equa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4. Build bridge using t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5. General Contractor -turn in bridge for insp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6. Project Manager- turn in Problem Solving Sheet for insp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7.Supply Manager – Gather and return suppl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rder of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as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ingle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vers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Homework on Halloween 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f course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We are not scared of homework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onstruct an Halloween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3:07:42Z</dcterms:created>
  <dc:creator>Chelle Daniels</dc:creator>
  <dc:description/>
  <dc:language>en-US</dc:language>
  <cp:lastModifiedBy>Chelle Daniels</cp:lastModifiedBy>
  <dcterms:modified xsi:type="dcterms:W3CDTF">2011-10-31T19:05:29Z</dcterms:modified>
  <cp:revision>4</cp:revision>
  <dc:subject/>
  <dc:title>Slide 1</dc:title>
</cp:coreProperties>
</file>